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2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0EB-A634-4ADC-8A8F-C8651F19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4CC-C99E-4B3B-B7EF-DB5FC81A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721-320B-4539-978A-C78E615C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826-3F7B-40AF-97C5-C7651E38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C33-BB5B-40F0-944A-E26FF8B3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F62-80B8-41F0-A850-9C598E34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CFD-A5A9-4B26-BA17-4EA222A7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601-C768-42DC-B272-A8CEC0FC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F66-4162-4B7B-BF29-29F2CF46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D3B-DA47-491A-8023-8991EAD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0B0-40BC-4AE2-BD05-E3E44314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E58-CE33-4AA5-81E2-5772732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5B52-FB0A-43C4-9508-3CB9AF3696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znachkov.net/spaw2/uploads/images/Znachok_GTO_10_stupeni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znachkov.net/spaw2/uploads/images/Znachki_GTO_1_stupen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625427.vk.me/v625427660/32f8d/aNQa8G3DQMM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virtualrm.spb.ru/files/images/%20&#1071;.&#1041;.&#1043;&#1086;&#1090;&#1086;&#1074;%20&#1083;&#1080;%20&#1090;&#1099;%20&#1082;%20&#1089;&#1076;&#1072;&#1095;&#1077;%20&#1085;&#1086;&#1088;&#1084;%20&#1085;&#1072;%20&#1079;&#1085;&#1072;&#1095;&#1086;&#1082;%20&#1043;&#1086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r-reklama33.ru/images/Uslugi/stendy/1/stend_gto_1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zaopressa.ru/sitefiles/rn/655/News/vystavka-gto-12.jpg03.&#1054;&#1088;&#1075;&#1072;&#1085;&#1080;&#1079;&#1072;&#1094;&#1080;&#1103;%20%20&#1088;&#1072;&#1073;&#1086;&#1090;&#1099;%20&#1087;&#1086;%20&#1054;&#1058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viewport=wide&amp;text=&#1043;&#1058;&#1054;%20&#1080;%20&#1055;&#1059;&#1058;&#1048;&#1053;&amp;img_url=http%3A%2F%2Ftest.fmba.dev.armd.ru%2Fcommon%2Fupload%2Fnews%2Fcover%2F1.jpeg.resize_72_108.jpg&amp;pos=2&amp;rpt=simage&amp;_=1438660926174&amp;pin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ivekuban.ru.images.1c-bitrix-cdn.ru/upload/resize_cache/iblock/5aa/570_0_1/5aa5dfcfa89dbabdd100a9cfcf13ac9a.jpg?14290035796568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dn.static3.rtr-vesti.ru/vh/pictures/o/524/77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msport.ru/image/gto/207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https://yandex.ru/images/search?text=&#1079;&#1085;&#1072;&#1095;&#1082;&#1080;%20&#1043;&#1058;&#1054;%20&#1088;&#1072;&#1085;&#1100;&#1096;&#1077;%20&#1080;%20&#1090;&#1077;&#1087;&#1077;&#1088;&#1100;&amp;redircnt=1438676516.1&amp;img_url=http%3A%2F%2Fimg.novoteka.ru%2F2013-03%2F13%25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zaopressa.ru/sitefiles/rn/655/News/gto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xinews.ru/up2/news/article/2015/06/11/big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rdovmedia.ru/media/contests/24/profiles/ea3b14345d2bbbad0e6c6e3021962d1b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россий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тов к труду и обо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8" descr="http://www.cheboksary.ru/images/41542.jpg"/>
          <p:cNvPicPr/>
          <p:nvPr/>
        </p:nvPicPr>
        <p:blipFill>
          <a:blip r:embed="rId1"/>
          <a:stretch/>
        </p:blipFill>
        <p:spPr>
          <a:xfrm>
            <a:off x="214200" y="214200"/>
            <a:ext cx="2071800" cy="15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" descr="http://school32-nv.ru/sites/default/files/u298/gto.jpg"/>
          <p:cNvPicPr/>
          <p:nvPr/>
        </p:nvPicPr>
        <p:blipFill>
          <a:blip r:embed="rId2"/>
          <a:stretch/>
        </p:blipFill>
        <p:spPr>
          <a:xfrm>
            <a:off x="1143000" y="2786040"/>
            <a:ext cx="685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parabadges.com/images/phocagallery/GTO%201972-1991/thumbs/phoca_thumb_l_1972_GTO_SEREBRO_3_A.jpg"/>
          <p:cNvPicPr/>
          <p:nvPr/>
        </p:nvPicPr>
        <p:blipFill>
          <a:blip r:embed="rId1"/>
          <a:stretch/>
        </p:blipFill>
        <p:spPr>
          <a:xfrm>
            <a:off x="571680" y="142920"/>
            <a:ext cx="3214440" cy="31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znachkov.net/spaw2/uploads/images/Zoloto_GTO_8_stup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42920"/>
            <a:ext cx="335736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www.znachkov.net/spaw2/uploads/images/Znachki_GTO_1_stupe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00080" y="3857760"/>
            <a:ext cx="6667560" cy="2190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1000080" y="6000840"/>
            <a:ext cx="6643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вые значки ГТО образца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285840" y="3214800"/>
            <a:ext cx="3714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4857840" y="3214800"/>
            <a:ext cx="33462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000680" y="4500720"/>
            <a:ext cx="49291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ы значок ГТО в России имели  более 58 миллионов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cs625427.vk.me/v625427660/32f8d/aNQa8G3DQM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42920"/>
            <a:ext cx="6215040" cy="439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virtualrm.spb.ru/files/images/%20%D0%AF.%D0%91.%D0%93%D0%BE%D1%82%D0%BE%D0%B2%20%D0%BB%D0%B8%20%D1%82%D1%8B%20%D0%BA%20%D1%81%D0%B4%D0%B0%D1%87%D0%B5%20%D0%BD%D0%BE%D1%80%D0%BC%20%D0%BD%D0%B0%20%D0%B7%D0%BD%D0%B0%D1%87%D0%BE%D0%BA%20%D0%93%D0%BE%D1%82%D0%BE%D0%B2%20%D1%83%20%D1%82%D1%80%D1%83%D0%B4%D1%83%20%D0%B8%20%D0%BE%D0%B1%D0%BE%D1%80%D0%BE%D0%BD%D0%B5,1932,%D0%B1%D1%83%D0%BC,%D1%85%D1%80%D0%BE%D0%BC%D0%BE%D0%BB%D0%B8%D1%82%D0%BE%D0%B3%D1%80.previe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4500720"/>
            <a:ext cx="341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57120" y="2858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Структура комплекса включает 11 ступ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42920" y="68040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и девочки от 6 до 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9 до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1 до 12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ши и девушки от 13 до 1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16 до 17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и женщины от 18 до 2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30 до 3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40 до 4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50 до 5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от 60 до 6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же старше 7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gor-reklama33.ru/images/Uslugi/stendy/1/stend_gto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Овал 2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6321600" cy="731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2714760" y="683280"/>
            <a:ext cx="6000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, не бояться док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ты поднимай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ядку отправля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не забудь чистить зу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к должен быть полез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шь морковку и шпина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твой будет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ома не сиди, а на улицу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м воздухом дыши, не спе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, лыжи и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избавят от т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где движенье места нет хандре и лени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http://yamac.ru/wp-content/uploads/media/%D0%BA%D0%BE%D0%BD%D1%81%D0%BF%D0%B5%D0%BA%D1%82-%D0%9D%D0%9E%D0%94-%D0%A4%D0%B8%D0%B7%D0%B8%D1%87%D0%B5%D1%81%D0%BA%D0%B0%D1%8F-%D0%BA%D1%83%D0%BB%D1%8C%D1%82%D1%83%D1%80%D0%B0-%D1%83%D1%87%D0%B5%D0%B1%D0%BD%D0%BE-%D1%82%D1%80%D0%B5%D0%BD%D0%B8%D1%80%D1%83%D1%8E%D1%89%D0%B5%D0%B3%D0%BE-%D1%85%D0%B0%D1%80%D0%B0%D0%BA%D1%82%D0%B5%D1%80%D0%B0/image1.gif"/>
          <p:cNvPicPr/>
          <p:nvPr/>
        </p:nvPicPr>
        <p:blipFill>
          <a:blip r:embed="rId2"/>
          <a:stretch/>
        </p:blipFill>
        <p:spPr>
          <a:xfrm>
            <a:off x="165240" y="2257560"/>
            <a:ext cx="2835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2762280"/>
            <a:ext cx="5846760" cy="1187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im2-tub-ru.yandex.net/i?id=531a605e0757bb4ecbefb28945d2a26b&amp;n=33&amp;h=170"/>
          <p:cNvPicPr/>
          <p:nvPr/>
        </p:nvPicPr>
        <p:blipFill>
          <a:blip r:embed="rId2"/>
          <a:stretch/>
        </p:blipFill>
        <p:spPr>
          <a:xfrm>
            <a:off x="214200" y="14292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cs421018.vk.me/v421018159/30f2/t6XuuLUj9Bg.jpg"/>
          <p:cNvPicPr/>
          <p:nvPr/>
        </p:nvPicPr>
        <p:blipFill>
          <a:blip r:embed="rId3"/>
          <a:stretch/>
        </p:blipFill>
        <p:spPr>
          <a:xfrm>
            <a:off x="2786040" y="142920"/>
            <a:ext cx="3530520" cy="249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fotohomka.ru/images/Dec/06/de0076c64956ebbff0bc81f08c536dff/1.jpg"/>
          <p:cNvPicPr/>
          <p:nvPr/>
        </p:nvPicPr>
        <p:blipFill>
          <a:blip r:embed="rId4"/>
          <a:stretch/>
        </p:blipFill>
        <p:spPr>
          <a:xfrm>
            <a:off x="5715000" y="2500200"/>
            <a:ext cx="3219480" cy="264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kamchat.info/images/cms/thumbs/562ea2fb1e6442bc25a636c4af9437d225fcf9eb/6581_253_auto_1_95.jpeg"/>
          <p:cNvPicPr/>
          <p:nvPr/>
        </p:nvPicPr>
        <p:blipFill>
          <a:blip r:embed="rId5"/>
          <a:stretch/>
        </p:blipFill>
        <p:spPr>
          <a:xfrm>
            <a:off x="214200" y="4071960"/>
            <a:ext cx="2409840" cy="247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15klspb.caduk.ru/images/psi.gif"/>
          <p:cNvPicPr/>
          <p:nvPr/>
        </p:nvPicPr>
        <p:blipFill>
          <a:blip r:embed="rId6"/>
          <a:stretch/>
        </p:blipFill>
        <p:spPr>
          <a:xfrm>
            <a:off x="6215040" y="4714920"/>
            <a:ext cx="3263760" cy="24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lpgzt.ru/photo/news/1_5619.jpg"/>
          <p:cNvPicPr/>
          <p:nvPr/>
        </p:nvPicPr>
        <p:blipFill>
          <a:blip r:embed="rId7"/>
          <a:stretch/>
        </p:blipFill>
        <p:spPr>
          <a:xfrm>
            <a:off x="2928960" y="40719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9" descr=""/>
          <p:cNvPicPr/>
          <p:nvPr/>
        </p:nvPicPr>
        <p:blipFill>
          <a:blip r:embed="rId8"/>
          <a:stretch/>
        </p:blipFill>
        <p:spPr>
          <a:xfrm>
            <a:off x="4352760" y="109440"/>
            <a:ext cx="4589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 на изображения: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szaopressa.ru/sitefiles/rn/655/News/vystavka-gto-12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kuban.ru.images.1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dn.static3.rtr-vesti.ru/vh/pictures/o/524/778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msport.ru/image/gto/207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zaopressa.ru/sitefiles/rn/655/News/gto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xinews.ru/up2/news/article/2015/06/11/bi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rdovmedia.ru/media/contests/24/profiles/ea3b14345d2bbbad0e6c6e3021962d1b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olzhaninovskievesti.ru/upload/resize_cache/iblock/421/300_0_1/42146ad73c07be0e33d687d8d19a24e0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znachkov.net/spaw2/uploads/images/Znachok_GTO_10_stupeni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625427.vk.me/v625427660/32f8d/aNQa8G3DQMM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or-reklama33.ru/images/Uslugi/stendy/1/stend_gto_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im2-tub-ru.yandex.net/i?id=531a605e0757bb4ecbefb28945d2a26b&amp;n=33&amp;h=17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421018.vk.me/v421018159/30f2/t6XuuLUj9Bg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ohomka.ru/images/Dec/06/de0076c64956ebbff0bc81f08c536dff/1.jpg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pgzt.ru/photo/news/1_5619.jp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143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грамма физкультурной подготовки. Программа ГТО была создана в Советском Союзе и просуществовала с 1931 до 1991 г. Она охватывала население от 10 до 60 лет. В ней предусматривалось всестороннее физическое развитие населения страны, укрепление и сохранение здоровья, подготовка к труду и защите Родины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szaopressa.ru/sitefiles/rn/655/News/vystavka-gto-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71280"/>
            <a:ext cx="4803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2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912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9120" cy="621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4 году Президент Российской Федерации Владимир Путин подписал указ о возвращении системы ГТ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требует серьезных изме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novosti-ukrainy.com/uploads/posts/2014-09/putin-sobiraetsya-na-sammit-bolshoy-dvadcatki-v-avstraliyu-soobschil-peskov_1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642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livekuban.ru.images.1c-bitrix-cdn.ru/upload/resize_cache/iblock/5aa/570_0_1/5aa5dfcfa89dbabdd100a9cfcf13ac9a.jpg?14290035796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321480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министра образования РФ Дмитрия Ливанова, начиная с 2015 года,  результаты сдачи комплекса ГТО будут учитываться при поступлении в высшие учебные за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cdn.static3.rtr-vesti.ru/vh/pictures/o/524/7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14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четный значок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smsport.ru/image/gto/20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285920"/>
            <a:ext cx="3411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начк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img0.liveinternet.ru/images/attach/c/4/84/516/84516506_Gotov_k_trudu_i_oborone_SSSR_30th_anniversa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1571760"/>
            <a:ext cx="403056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szaopressa.ru/sitefiles/rn/655/News/gt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571760"/>
            <a:ext cx="4205160" cy="4586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428760" y="6072120"/>
            <a:ext cx="400032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зн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4500720" y="6072120"/>
            <a:ext cx="421452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57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учить значок советские граждане должны были сдавать нормативы по бегу, метанию гранаты, плаванию, отжиманию, бегу на лыжах, стрельбе и т. 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учение и дальнейшее ношение значка ГТО было поче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dixinews.ru/up2/news/article/2015/06/11/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14292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От значка ГТО - к олимпийской медали!»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ак гласил лозунг, вдохновлявший миллионы советских граждан на ежедневные занятия спортом, как минимум утренней гимна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mordovmedia.ru/media/contests/24/profiles/ea3b14345d2bbbad0e6c6e3021962d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7680" y="3000240"/>
            <a:ext cx="660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5-08-30T10:56:58Z</dcterms:modified>
  <cp:revision>277</cp:revision>
  <dc:subject/>
  <dc:title>Diapositiva 1</dc:title>
</cp:coreProperties>
</file>